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EBF4-23D1-416A-92C6-1404F9FB0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9647-B663-428D-90EE-5AB4CC73C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6B5A-481C-4AE7-8B21-9A27AB33B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E996-4737-4345-937D-F71BAE270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E305-5EEB-40AD-8D7F-63969722A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042C-DDEB-45CE-8877-09BE7E50D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4BB4-361A-4580-8BE5-3B78B9529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A3E3-B6A4-4DBD-A4AD-E59136EE0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9F42-00F3-49EA-999B-C3617D897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A561-0127-4768-A075-4A8E1593D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5A3B-2CD8-4FFB-9E11-63530FC7E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5AF4-2AC3-40D3-88C1-43D949CE9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0FE1-B2EE-4534-A8C9-E26CD3CB1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5542-DA49-48F0-B82B-E6AFAD5A6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3743-1367-46C9-8CB9-7D6E0BFC3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8FBA-6965-41EA-B071-D762B2A99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012C-96E2-46A7-AA71-B826C3766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7B2-7F3C-4F13-9A83-D189F55B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AC7-C468-47DD-888D-7C304CC7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328-60C6-4A5A-A1C4-D350DC96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2F67-3615-423A-BC22-39D03445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46D-5348-4806-B21C-CFA06024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1A1-16EE-4D9E-99AD-D815B5F4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BFB-B933-4EC5-98B7-F21C5E15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245-4FB3-4267-8ECF-85074A86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9639-98CA-43BA-A13C-6C4E56FC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502-2F42-44B6-89E4-6D5F4376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CB2-CC75-457E-B5CD-58D29152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B2A-A1BD-4F12-918D-4C1BFC9F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DB2E-032F-4326-9D82-8A439C81C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viously, the Hardy-Weinberg equilibrium cannot exist in real lif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r all of these types of forces all act on living populations at various times and evolution at some level occurs in all living organis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ardy-Weinberg formulas allow us to detect some allele frequencies that change from generation to generation, thus allowing a simplified method of determining that evolution is occurr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y-Weinberg Formu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pq +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+ q = 1 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= frequency of the dominant allele in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= frequency of the recessive allele in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ercentage of homozygous dominant 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ercentage of homozygous recessive 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pq = percentage of heterozygous individu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chanisms that Affect Gene P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dividuals are produced each generation that can survi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enotypic variation exists among individuals and the variation is heri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individuals with heritable traits better suited to the environment will survi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productive isolation occurs new species will for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each generation, some individuals may, just by chance, leave behind a few more descendents (and genes, of course!) than other individua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genes of the next generation will be the genes of the “lucky” individuals, not necessarily the healthier or “better” individuals. That, in a nutshell, is genetic drift. It happens to ALL popu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dom change in allele frequ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change in  the gene pool due to the migration of individuals between popu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mutation is basically a gene that has an abnormality in relation to its normal configura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curs when a DNA sequence is damaged or changed in such a way as to alter the genetic message carried by that g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tic Variation in Pop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olution is a change in populations over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evolution is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an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species, can occur within 1 or over hundreds of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roevolution i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species, usually is over very long periods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evolution is a change in the genetic composition of popu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 genetics studies micro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ene_pool_lg"/>
          <p:cNvPicPr/>
          <p:nvPr/>
        </p:nvPicPr>
        <p:blipFill>
          <a:blip r:embed="rId1"/>
          <a:stretch/>
        </p:blipFill>
        <p:spPr>
          <a:xfrm>
            <a:off x="609480" y="274680"/>
            <a:ext cx="3600720" cy="6583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4878000" y="6248520"/>
            <a:ext cx="396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66"/>
                </a:solidFill>
                <a:latin typeface="Arial"/>
                <a:ea typeface="Arial"/>
              </a:rPr>
              <a:t>Courtesy of Windows to the Universe, http://www.windows.ucar.e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495680" y="1600200"/>
            <a:ext cx="4191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4340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 P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19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 p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population is the complete set of unique alleles that would be found by inspecting the genetic material of every living member of that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wo individuals of a species are exactly alike (even identical twins have differences –height, weight, et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wo or more alleles of a gene are present in a gene pool, the population is said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ymorph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sts have concluded that almost all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pulations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x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oducing organisms have much variation in their gene p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? Abou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05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DNA bases are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humans with 3 billion base pairs, this is 15 million variable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urce of this variation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mbi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lleles during meio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rdy-Weinber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fying concept of population genetics is the Hardy-Weinberg Law (named after the two scientists who simultaneously described the law). The law predicts how gene frequencies will be transmitted from generation to generation given a specific set of assum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rdy-Weinberg model allows scientists to determine whether evolu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as occur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gene frequencies in the population over time can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w essentially states that i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 ev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ccurring, then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ilibr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llele frequencies will remain in effect in each succeeding generation of sexually reproducing individua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quilibr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main in effect (i.e. that no evolution is occurring) then the following conditions must be me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 of Hardy-Weinbe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rganism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p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ons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overlapp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size is ver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eglig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oduction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x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etes unite 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eglig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selection do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22:01Z</dcterms:created>
  <dc:creator>Family</dc:creator>
  <dc:description/>
  <dc:language>en-US</dc:language>
  <cp:lastModifiedBy>biochemchic21</cp:lastModifiedBy>
  <dcterms:modified xsi:type="dcterms:W3CDTF">2011-09-24T19:11:13Z</dcterms:modified>
  <cp:revision>8</cp:revision>
  <dc:subject/>
  <dc:title>Population Genetics</dc:title>
</cp:coreProperties>
</file>